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0063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5AF9E-E242-4A0B-8790-FACEB9928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7FDF6-F989-4463-862B-79C892129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BDFD6-B868-4094-883A-F671C83D5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30526-5CC9-4307-9136-6F61065CB7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D524A-F073-4B1B-9182-5F33E9B2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A0CFE-84AB-43FD-B496-9CE997EA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C3EFA-51A3-482D-9A4C-11515D24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157A3-B6FE-4D9D-9848-AAC9E47D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1B2B9-8EBD-48A7-819F-D07C7BAF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75FA0-7929-491B-8B00-2015DEC2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6BDBA-AF58-484E-81BD-CC63CB63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9D842-5CF9-4111-BD5E-E21396AD3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9D3AF-2F5E-42CB-A980-A6D75BD5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65275-79E3-41C9-9D68-06F696A8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9E4E3-27E9-4331-93A9-ED38C097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148C3-F58D-48F7-B4F0-E25AB96C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FD35C-956F-46C1-B2DA-F76D771D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8D342-2022-46DB-ABD9-1B2B52EE7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2474-7EDF-4077-AB57-EE9829593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C03C4-AFC2-4774-B651-193C22440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B0DF0-4A81-4FD7-BC87-25A0C330E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50499-73E8-478C-90DD-9B261A1BA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E53C2-9680-4F5E-9F56-C4610883B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2474B-587F-48EB-B890-BA8474C02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C3A2-AA63-4D67-BCD8-28252A0E5439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3225-5113-4ADA-914E-C086A0AF232C}" type="datetime">
              <a:rPr b="0" lang="hu-HU" sz="1200" spc="-1" strike="noStrike">
                <a:solidFill>
                  <a:srgbClr val="ffffff"/>
                </a:solidFill>
                <a:latin typeface="Arial"/>
              </a:rPr>
              <a:t>26.07.31.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E9AE-1F57-49F5-834C-282B7C953DF4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206064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ff9900"/>
                </a:solidFill>
                <a:latin typeface="Times New Roman"/>
              </a:rPr>
              <a:t>GPS-re</a:t>
            </a:r>
            <a:r>
              <a:rPr b="1" lang="hu-HU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800" spc="-1" strike="noStrike">
                <a:solidFill>
                  <a:srgbClr val="ff9900"/>
                </a:solidFill>
                <a:latin typeface="Times New Roman"/>
              </a:rPr>
              <a:t>alapozott</a:t>
            </a:r>
            <a:r>
              <a:rPr b="1" lang="hu-HU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800" spc="-1" strike="noStrike">
                <a:solidFill>
                  <a:srgbClr val="ff9900"/>
                </a:solidFill>
                <a:latin typeface="Times New Roman"/>
              </a:rPr>
              <a:t>üzemvitel-irányítás</a:t>
            </a:r>
            <a:r>
              <a:rPr b="1" lang="hu-HU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800" spc="-1" strike="noStrike">
                <a:solidFill>
                  <a:srgbClr val="ff9900"/>
                </a:solidFill>
                <a:latin typeface="Times New Roman"/>
              </a:rPr>
              <a:t>egy közúti személyszállító vállalatnál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08000" y="3860280"/>
            <a:ext cx="46386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9900"/>
                </a:solidFill>
                <a:latin typeface="Times New Roman"/>
              </a:rPr>
              <a:t>Készítette: Matók Vik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206064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200" spc="-1" strike="noStrike">
                <a:solidFill>
                  <a:srgbClr val="ff9900"/>
                </a:solidFill>
                <a:latin typeface="Times New Roman"/>
              </a:rPr>
              <a:t>Köszönöm a figyelmüket!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1900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9900"/>
                </a:solidFill>
                <a:latin typeface="Times New Roman"/>
              </a:rPr>
              <a:t>A témaválasztás okai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8318520" y="558972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720" y="1366560"/>
            <a:ext cx="891540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informatika és a közlekedés összefonód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anapság oly divatos GPS alkalmazhatóságának bemutat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otorizáció mellékhatásainak visszaszorításának törekv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émaválasztást erősen behatárolta a lakóhelyem iránti elkötelezettség, Szolnok közlekedésének jobbátétele iránti vágy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08C75B-DACA-46F0-AFA6-52E1686DDB85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1900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7848360" cy="67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9900"/>
                </a:solidFill>
                <a:latin typeface="Times New Roman"/>
              </a:rPr>
              <a:t>A dolgozat felépítés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497800" cy="380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űholdas helymeghatározó rendszer adta általános lehetőségek a közlekedésb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orgalomirányító rendszerek fejlődése, típusai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DIFER bemutatása, előzménye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avaslatok a továbbfejlesztésre, összehasonlítások alapjá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8520" y="558972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1900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04960" y="0"/>
            <a:ext cx="59911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50752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enetrendszerűség ellenőrzése a megállóhelye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Útvonal és menetidő terv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Utastájékoztat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Dinamikus forgalomirányít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68000" y="3212640"/>
            <a:ext cx="867564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Dinamikus Forgalomirányítási és Ellenőrzési Rendszer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8389800" y="5734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89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Times New Roman"/>
              </a:rPr>
              <a:t>DIF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00017 -0.07569 L -0.08073 -0.32778 E">
                                      <p:cBhvr>
                                        <p:cTn id="11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1900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2204640"/>
            <a:ext cx="878544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avulta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80-as, 90-es évek technológiá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 rugalmasak az útvonalak tekintetéb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iépítésük drá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hezen vagy egyáltalán nem fejleszthetőek a műholdas rendszerekhez kép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834920" y="2924280"/>
            <a:ext cx="756108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9900"/>
                </a:solidFill>
                <a:latin typeface="Times New Roman"/>
              </a:rPr>
              <a:t>Miért jobbak a GPS alapú rendszerek mint az ellenőrző pontosak?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8318520" y="551664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4722 -0.02084 L -0.18489 -0.23079 E">
                                      <p:cBhvr>
                                        <p:cTn id="41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1900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6626160" cy="60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9900"/>
                </a:solidFill>
                <a:latin typeface="Times New Roman"/>
              </a:rPr>
              <a:t>Pécsi Pannon Volán Zrt.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6448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Utastájékoztatá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 belső kijelző, W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URH rádiós adatátvi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18520" y="551664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924280"/>
            <a:ext cx="662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9900"/>
                </a:solidFill>
                <a:latin typeface="Times New Roman"/>
              </a:rPr>
              <a:t>Debreceni DKV Zrt.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3789360"/>
            <a:ext cx="8664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lósidejű utastájékoztatá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 villamos megállók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3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Zöldút ké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3213000"/>
            <a:ext cx="8675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Magyarországi személyszállítási vállalatoknál működő GPS alapú rendszere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1900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6626160" cy="60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9900"/>
                </a:solidFill>
                <a:latin typeface="Times New Roman"/>
              </a:rPr>
              <a:t>Szolnoki Jászkun Volán Zrt.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6448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netrendterv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ekete rezsi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18520" y="551664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2924280"/>
            <a:ext cx="662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9900"/>
                </a:solidFill>
                <a:latin typeface="Times New Roman"/>
              </a:rPr>
              <a:t>Budapesti BKV Zrt.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3789360"/>
            <a:ext cx="8664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gfrissebb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 teszt alatt á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 DI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3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6 db jármű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 86 vona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1900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6626160" cy="60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9900"/>
                </a:solidFill>
                <a:latin typeface="Times New Roman"/>
              </a:rPr>
              <a:t>Békéscsabai Körös Zrt.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8318520" y="551664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484280"/>
            <a:ext cx="8664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2000"/>
          </a:bodyPr>
          <a:p>
            <a:pPr marL="178200" indent="-17820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akukkzojás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 helyközi járat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8200" indent="-178200">
              <a:spcBef>
                <a:spcPts val="3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8200" indent="-17820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Üzemanyag figyel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8200" indent="-178200">
              <a:spcBef>
                <a:spcPts val="3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8200" indent="-17820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egyérvényesít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1900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63280" y="2852640"/>
            <a:ext cx="8893080" cy="6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9900"/>
                </a:solidFill>
                <a:latin typeface="Times New Roman"/>
              </a:rPr>
              <a:t>A DIFER továbbfejlesztésének lehetőségei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64480" cy="33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Üzemanyag szint mé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árműterhelés mé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Utastájékoztatás fejleszt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iterjesztés a helyközi közlekedés irányításá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18520" y="551664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6893 -0.07523 L -0.17917 -0.28518 E">
                                      <p:cBhvr>
                                        <p:cTn id="7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1:58:46Z</dcterms:created>
  <dc:creator>Menkó Mihály</dc:creator>
  <dc:description/>
  <dc:language>en-US</dc:language>
  <cp:lastModifiedBy>Tyurutty</cp:lastModifiedBy>
  <cp:lastPrinted>2004-06-24T13:06:41Z</cp:lastPrinted>
  <dcterms:modified xsi:type="dcterms:W3CDTF">2007-06-19T19:10:16Z</dcterms:modified>
  <cp:revision>59</cp:revision>
  <dc:subject/>
  <dc:title>Dinamikus Forgalomirányítási és Ellenőrző Rendszer (DIFER) Szolnok város helyi tömegközlekedésében</dc:title>
</cp:coreProperties>
</file>